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A78-973D-4E39-9178-7E28B2EB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756-A2E0-4420-AB03-6C401B18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665F-E773-4790-A824-A8FFE8D3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0AA8-26BF-4BD9-9328-9C59696B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EF78-4C2B-4900-9C59-3A789AED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58F1-552E-4715-8840-1A3CFFEF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3E16-028E-4F5A-B245-AF03C855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854B-CB2F-41FD-9730-D3FD2CB3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9C6B-4603-4BE9-A3E1-CB5E3A82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0AB8-AC00-4AF4-87D8-B421F1A2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2218-880B-4C80-B348-594FCC22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7E35-FD21-4167-9195-C4DE314E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D5F2-B2E2-4DB1-9318-D6AD80F5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885A-EC6D-4570-93BA-41FB4FA7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01B1-2C13-4CD1-97FB-70A7ED50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89A3-8E31-44BA-BF97-E7690A3F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4B7F-11A8-40C3-A202-61DEB5EA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FA47-2F49-42E0-8539-C1D8FFEC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335-7DCF-463A-9502-AC4386F8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3A27-6DB7-4EC6-9366-B60647D8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BA7-F2BD-4C41-96F7-A48DB6B7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04D2-4D51-40DA-9939-CE72586A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DB6-E6BF-4E7B-A17F-412DFD18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228D-C178-49FC-A71D-22B70934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A999-5A27-43AC-A195-560500D1D07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F7C6-4955-4CFC-9A7C-55C40DBD917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lgebra 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7.4: Complex Fra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tober 1, 200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the fundamental principle to simplify complex frac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division to simplify complex frac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 complex fra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complex fraction is a fraction that has a fraction in the numerator or the denominator or both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½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x-1/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¾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-1/3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will be discussing two methods to simplify complex frac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implifying complex fractions: method 1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undamental principle states that the you can always multiply the numerator and the denominator by the same numb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ultiply the numerator and the denominator of the complex fraction by the LCD of all the fractions that appear within the numerator and the denominato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mplify the resulting rational expression, writing the expression in the lowest term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thod 1 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 +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2x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x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y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(1 +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2x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  y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y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(2-  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x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y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y+2x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y-x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re practice with Method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x+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-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implifying complex fractions: Method 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e the numerator and denominator as single fraction; rewrite them if necessar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rt the denominator and multiply, writing the result in the lowest term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thod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5/8 +1/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/9+1/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actice simplifying complex fractions: Method 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x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y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   </a:t>
            </a:r>
            <a:r>
              <a:rPr b="0" lang="en-US" sz="800" spc="-1" strike="noStrike" u="sng">
                <a:solidFill>
                  <a:srgbClr val="eaeaea"/>
                </a:solidFill>
                <a:uFillTx/>
                <a:latin typeface="Arial"/>
              </a:rPr>
              <a:t>.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2x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9:47:09Z</dcterms:created>
  <dc:creator>nuhs</dc:creator>
  <dc:description/>
  <dc:language>en-US</dc:language>
  <cp:lastModifiedBy>nuhs</cp:lastModifiedBy>
  <dcterms:modified xsi:type="dcterms:W3CDTF">2007-10-01T20:23:04Z</dcterms:modified>
  <cp:revision>25</cp:revision>
  <dc:subject/>
  <dc:title>Algebra 2A</dc:title>
</cp:coreProperties>
</file>